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A9F-6CAC-4A8D-9FB1-A94A2CFB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103-B02B-4D99-8176-730B6F7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64C-C675-4654-A4F5-F3E45915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B00-244E-46C3-B91D-726A228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9E0-DD9D-411B-BC00-A2262E8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D87-BCA1-446A-9BA8-9EB8C08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08B-D2CC-42FE-94B6-BF03DAD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B55-851B-427C-ACD7-EDD6EE1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7AF-B5F3-4585-827A-96F33F0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190-5987-4CAD-A42D-202F315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B7A-BDFE-4DC9-8B0F-8CBA7FA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5C9-D8D1-4198-97F7-9A5A62B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EF46-EDA9-4DCA-9BF7-43B96A56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hyperlink" Target="file:///tmp/home/.config/libreoffice/4/user/gallery/Breaking%20Glass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- pos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0960" y="1932120"/>
          <a:ext cx="7772400" cy="4827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8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te bias &amp; distor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ing con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AutoShape 39"/>
          <p:cNvSpPr/>
          <p:nvPr/>
        </p:nvSpPr>
        <p:spPr>
          <a:xfrm>
            <a:off x="4027320" y="2711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40"/>
          <p:cNvSpPr/>
          <p:nvPr/>
        </p:nvSpPr>
        <p:spPr>
          <a:xfrm>
            <a:off x="4038480" y="3276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1">
            <a:hlinkClick r:id="rId1"/>
          </p:cNvPr>
          <p:cNvSpPr/>
          <p:nvPr/>
        </p:nvSpPr>
        <p:spPr>
          <a:xfrm>
            <a:off x="4005360" y="3863880"/>
            <a:ext cx="990360" cy="38124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78" h="21600">
                <a:moveTo>
                  <a:pt x="0" y="0"/>
                </a:moveTo>
                <a:lnTo>
                  <a:pt x="56078" y="0"/>
                </a:lnTo>
                <a:lnTo>
                  <a:pt x="56078" y="21600"/>
                </a:lnTo>
                <a:lnTo>
                  <a:pt x="0" y="21600"/>
                </a:lnTo>
                <a:close/>
              </a:path>
              <a:path fill="lightenLess" w="56078" h="21600">
                <a:moveTo>
                  <a:pt x="0" y="0"/>
                </a:moveTo>
                <a:lnTo>
                  <a:pt x="56078" y="0"/>
                </a:lnTo>
                <a:lnTo>
                  <a:pt x="54679" y="1400"/>
                </a:lnTo>
                <a:lnTo>
                  <a:pt x="1400" y="1400"/>
                </a:lnTo>
                <a:close/>
              </a:path>
              <a:path fill="darken" w="56078" h="21600">
                <a:moveTo>
                  <a:pt x="56078" y="0"/>
                </a:moveTo>
                <a:lnTo>
                  <a:pt x="56078" y="21600"/>
                </a:lnTo>
                <a:lnTo>
                  <a:pt x="54679" y="20200"/>
                </a:lnTo>
                <a:lnTo>
                  <a:pt x="54679" y="1400"/>
                </a:lnTo>
                <a:close/>
              </a:path>
              <a:path fill="darkenLess" w="56078" h="21600">
                <a:moveTo>
                  <a:pt x="56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9" y="20200"/>
                </a:lnTo>
                <a:close/>
              </a:path>
              <a:path fill="lighten" w="56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2"/>
          <p:cNvSpPr/>
          <p:nvPr/>
        </p:nvSpPr>
        <p:spPr>
          <a:xfrm>
            <a:off x="4038480" y="44197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3"/>
          <p:cNvSpPr/>
          <p:nvPr/>
        </p:nvSpPr>
        <p:spPr>
          <a:xfrm>
            <a:off x="4038480" y="52578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>
            <a:hlinkClick r:id="rId2"/>
          </p:cNvPr>
          <p:cNvSpPr/>
          <p:nvPr/>
        </p:nvSpPr>
        <p:spPr>
          <a:xfrm>
            <a:off x="40384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2" descr=""/>
          <p:cNvPicPr/>
          <p:nvPr/>
        </p:nvPicPr>
        <p:blipFill>
          <a:blip r:embed="rId3"/>
          <a:stretch/>
        </p:blipFill>
        <p:spPr>
          <a:xfrm>
            <a:off x="6770520" y="265572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8" descr=""/>
          <p:cNvPicPr/>
          <p:nvPr/>
        </p:nvPicPr>
        <p:blipFill>
          <a:blip r:embed="rId4"/>
          <a:stretch/>
        </p:blipFill>
        <p:spPr>
          <a:xfrm>
            <a:off x="6748560" y="321156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9" descr=""/>
          <p:cNvPicPr/>
          <p:nvPr/>
        </p:nvPicPr>
        <p:blipFill>
          <a:blip r:embed="rId5"/>
          <a:stretch/>
        </p:blipFill>
        <p:spPr>
          <a:xfrm>
            <a:off x="6781680" y="38098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0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1" descr=""/>
          <p:cNvPicPr/>
          <p:nvPr/>
        </p:nvPicPr>
        <p:blipFill>
          <a:blip r:embed="rId7"/>
          <a:stretch/>
        </p:blipFill>
        <p:spPr>
          <a:xfrm>
            <a:off x="6781680" y="5181480"/>
            <a:ext cx="522360" cy="46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8"/>
          <a:stretch/>
        </p:blipFill>
        <p:spPr>
          <a:xfrm>
            <a:off x="6781680" y="6095880"/>
            <a:ext cx="522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8520" y="181296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ver the course of the unit provides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at is needed to adjust my teaching methods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ll help me decide whether I need to alter an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essons to fit my student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icular needs….  The summ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 assessment will help me to evaluate both my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nd myself as a teacher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87160" y="1812960"/>
            <a:ext cx="83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ly, the assessment during my unit will show that I hav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ve impact on student learning which is required of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.  I should be able to illustrate progress toward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hieving the learning targets by comparing the resul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ssment with those of the post-assessment.  Thes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to successful completion of the MiT progra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important documentation that I will be able to p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hiring pro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your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n extern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,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981080"/>
            <a:ext cx="7772400" cy="2057400"/>
          </a:xfrm>
          <a:prstGeom prst="rect">
            <a:avLst/>
          </a:prstGeom>
          <a:solidFill>
            <a:srgbClr val="e4b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22240" y="204156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-Level learning targets are stated clearly and concisely and are correctly categorized (fact, concept, skill, disposition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Rs are cited when appropriate.  (Reference the EALR/GLE right below the associated targe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1680" y="1736640"/>
            <a:ext cx="846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know the fundamental trigonometric ratio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1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do not have to list all 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understand the applications of trig in a wide var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ccupations and fields of stud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5.3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 able to solve problems involving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ight triangle trigonometry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th 2.1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begin to enjoy the problem solving pro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b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Level Learn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targets clea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y the target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associated EALRs with the targets when appropria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1981080"/>
            <a:ext cx="8077320" cy="2133720"/>
          </a:xfrm>
          <a:prstGeom prst="rect">
            <a:avLst/>
          </a:prstGeom>
          <a:solidFill>
            <a:srgbClr val="b5f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16120" y="20415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and contents of the pre- and post-unit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and justified.  Clear connecti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to the nature of the learning target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a Ch.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re presented in this section or are includ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endi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4382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40160" y="1736640"/>
            <a:ext cx="8338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and post-test for this unit are selected respon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nswer, and problem-solving (extended response) te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assessment is very effective for fact targets (p.98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selected response can be an effective way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monstrate mastery of the knowledge required to perfor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kills of the unit (p. 1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test includes questions that are very similar to thos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-test.  However, there are fewer questions on the post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y are slightly simpler.  The post-test contain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 order to sample a greater portion of the stud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.  Both tests and their scoring guides can be foun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5800" y="1981080"/>
            <a:ext cx="77724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sufficiently thorough (yet concise!) description of the unit so as to allow an informed reader to make correct inferences about the uni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ontext and int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41240" y="1736640"/>
            <a:ext cx="80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to apply selected response and short essay as 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instruments for several reasons which includ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my learning targets are focused on the mas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acts and concepts.  Therefore I am applying 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that are designed to measure these types of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ccurately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fb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and contents of the pre and post-assessm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d jus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connections are made to the nature of the learning targe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1981080"/>
            <a:ext cx="8077320" cy="1143000"/>
          </a:xfrm>
          <a:prstGeom prst="rect">
            <a:avLst/>
          </a:prstGeom>
          <a:solidFill>
            <a:srgbClr val="fe9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16840" y="204156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ear, well reasoned description of possible sources of 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s-measurement is off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349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3320" y="1654200"/>
            <a:ext cx="8376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any assessment instrument, there are bias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ions that must be considered as possible 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easurement.  Here are some that will be important in my 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er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the creator of the assessment instruments, 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ask myself if I properly matched the method of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y learning targe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ty of Test Question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The items on the assessments m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be written clearly or well focused, thus leading the students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 incorrectly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st Form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Both tests use standard format items (multiple choi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 answer, short essay).  Students who excel at other type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ms may not do as well as they cou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89856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74400" y="1654200"/>
            <a:ext cx="830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gest concern with using these 2 tools focuses on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telligence which they favor.  Students who are better verba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 learners may have an advantage in communicating 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dia.  Other students with other types of intelligences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able to demonstrate their understanding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concern lies in my selection of the selecte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.  How do I know that the questions 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 chosen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body of knowledge I have presented?  P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questions may not appropriately emphasize the fa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, and skill targets I have set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urces of mis-measurement are identified and explain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Bias &amp;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838080" y="571500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837"/>
                </a:moveTo>
                <a:lnTo>
                  <a:pt x="15694" y="6448"/>
                </a:ln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lnTo>
                  <a:pt x="20080" y="10800"/>
                </a:lnTo>
                <a:lnTo>
                  <a:pt x="18427" y="10800"/>
                </a:lnTo>
                <a:lnTo>
                  <a:pt x="18427" y="17989"/>
                </a:lnTo>
                <a:lnTo>
                  <a:pt x="7808" y="17989"/>
                </a:lnTo>
                <a:lnTo>
                  <a:pt x="7808" y="10800"/>
                </a:lnTo>
                <a:lnTo>
                  <a:pt x="6154" y="10800"/>
                </a:lnTo>
                <a:close/>
              </a:path>
              <a:path fill="darkenLess" w="26235" h="21600">
                <a:moveTo>
                  <a:pt x="15694" y="6448"/>
                </a:moveTo>
                <a:lnTo>
                  <a:pt x="15694" y="4707"/>
                </a:lnTo>
                <a:lnTo>
                  <a:pt x="17469" y="4707"/>
                </a:lnTo>
                <a:lnTo>
                  <a:pt x="17469" y="8224"/>
                </a:lnTo>
                <a:close/>
              </a:path>
              <a:path fill="darkenLess" w="26235" h="21600">
                <a:moveTo>
                  <a:pt x="12195" y="14299"/>
                </a:moveTo>
                <a:lnTo>
                  <a:pt x="14040" y="14299"/>
                </a:lnTo>
                <a:lnTo>
                  <a:pt x="14040" y="17989"/>
                </a:lnTo>
                <a:lnTo>
                  <a:pt x="18427" y="17989"/>
                </a:lnTo>
                <a:lnTo>
                  <a:pt x="18427" y="10800"/>
                </a:lnTo>
                <a:lnTo>
                  <a:pt x="7808" y="10800"/>
                </a:lnTo>
                <a:lnTo>
                  <a:pt x="7808" y="17989"/>
                </a:lnTo>
                <a:lnTo>
                  <a:pt x="1219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64200" y="18129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is a 9th grade World Geography course.  The Ch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mes at the end of the East Asia segment and is the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unit the students complete before the end of school. 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will run approximately four weeks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4560" y="1812960"/>
            <a:ext cx="8523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ltimate goal for the unit is to bring to a close the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of the class by closely examining the notion of th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ow it has changed throughout the eras.  I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American Dream during Willy Loma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our notion of the American Dream has endurd through the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spects have changed over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have they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go wrong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students to be able to compare their feelings to tho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in other historical periods we have been reading about…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nt (guiding objec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" action="ppaction://hlinkshowjump?jump=firstslide"/>
            <a:hlinkClick r:id="rId1"/>
          </p:cNvPr>
          <p:cNvSpPr/>
          <p:nvPr/>
        </p:nvSpPr>
        <p:spPr>
          <a:xfrm>
            <a:off x="68580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solidFill>
            <a:srgbClr val="f6f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assessment is clearly presented and discussed in light of the information presented in Chapter 2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463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67080" y="1812960"/>
            <a:ext cx="82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y students, the assessments are their opport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ow me what they have learned and where they need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unit.  The pre-assessment gives them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their prior knowledge while the post-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hem summative information which allows them to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own succes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studen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Roddy</cp:lastModifiedBy>
  <dcterms:modified xsi:type="dcterms:W3CDTF">2011-10-19T04:23:00Z</dcterms:modified>
  <cp:revision>6</cp:revision>
  <dc:subject/>
  <dc:title>The pre- post assessment</dc:title>
</cp:coreProperties>
</file>